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2B8-90AD-4A8F-8041-26D7D8D9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0BB-26C8-4E0F-825F-5B7E9874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DBD2D-261D-4C58-A5B5-4EFF0C2D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10574-DEA1-4B97-B5D6-3FCE4958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0E90F-ED2A-4530-9EEA-7EBA42F6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45301-4C13-44B7-8CAD-DB94AEBA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DD595-D66F-40BB-A688-EEE934FC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E80BE-0FFE-4703-8893-E5019991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5366E-63CE-453C-B37B-81CE647C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21159-6209-4686-A031-0CCE06DD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32012-9042-4CED-AE4B-19D73462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E2A20-9D0A-4C3E-9CF1-6A660A5C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3A2-29B7-4F9F-A51C-A3340D6B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60201-B9D9-499E-85C9-663CFE5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3753D-F317-44EC-A6DF-C42BDA36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59B1A-DFC1-4861-AB82-2E9AEBE9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22F61-0D82-402A-B779-B65563E1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2B04B-D995-46CF-86DB-6CFD5217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9F95F-7433-4D17-A12A-AC9FB0A9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DB696-F45D-4E81-A897-FE255B1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3670D-A32A-4CA0-A209-41ACA0C6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AC39A-1ACB-4ADD-84C4-0BD19C23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B8660-5424-47B2-A0F8-FACF5B04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8B9-DEB1-491F-A79B-97768A7C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4A154-082A-4B51-BE8E-ADEDCF21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27222-2A02-48F8-8FEE-F5A87E35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6758E-85A8-4B4F-A2B5-83146D93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57836-4C54-4388-BF3E-EB4CCE31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0AE4C-C30B-4295-8400-96DC0EDB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D63D4-2544-45C4-805F-FCFCAC13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502A9-A07B-4E60-9C67-7BA1562A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ACEEA-AA14-4999-8E89-EF7FC9B3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0FE6F-D4EF-4C4F-89CA-2560955E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0C5C0-D8FF-4625-AD5D-06202E3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A7FF-74DE-40BE-B4BA-10847853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99F3A-33BC-4F74-8B6F-8F3D3935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4CFF2-70D8-4130-B8B7-C550134A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F1653-1B92-4A94-A2A7-ED78A558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499A5-DA70-400B-BAEC-5BE22D54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112BF-10C3-438E-A2F2-F00AC785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28281-ABBA-4074-B8A6-FD3B73D0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F2B80-B3E3-42A6-ABF8-EC075E20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91DB9-D283-4789-AD7B-6F8F2FE2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2853B-B77B-4040-9065-49F85CF6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48425-64F7-4037-8D0C-06A996A8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0ED4-9F73-4BA7-BA4C-8E32864A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A11B0-C29C-4768-AF9F-27E613B0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BF393-2C95-48C8-BD19-C358EA2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47769-BF99-4821-8C52-82E5A2BB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6FC50-67B8-48EA-A19C-47ABB88D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5864B-2C04-4EBB-890E-A4FEA4AB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8385E-306C-4A00-9522-814C90B6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D8674-A120-4591-BA96-6D311577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510D9-E549-4E0F-B253-36BAB6A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77E5C-09C0-484B-8885-2A0C88F9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5DC47-4AB0-4A33-A9BD-2B5A87CF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8473-A397-4E61-96BA-774EEB11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3D745-893B-4A59-B0C6-04501B6B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A8FE9-13CA-4859-B370-698259AA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DDF0F-0FBC-4A7D-88D0-2AEAE17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9E658-2C76-4A43-A7B8-BDBA35B5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5BC0B-DBA6-46A8-A730-6D058F5E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7FC8C-766C-4706-9E3C-EA99D5D0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F6749-37C5-4C7D-8157-7D5B67C6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712F1-A65F-469C-AB7D-8E7D1E90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FB190-A510-4DE2-895F-4AFF17B8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09E85-16B9-473A-BA69-3F236DFC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3045-69E4-4045-B2D2-32586DF0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A1D3A-DE5F-4762-8478-45DFDF86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FEA66-0F7A-4813-8925-69D0E99A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0BB29-46B6-4C49-9BFA-645E9C55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81654-2E9D-42B5-8E35-0A6B640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80144-AA69-4724-B661-3BE38DAC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61402-64CC-42BC-BCF2-56C6076E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11821-6BEB-4897-AF0A-18B3B0BD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FD903-30E9-437D-9939-9C586909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FA410-B5B7-49E3-AFEE-167C4EB3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B8871-1F5A-457B-A30F-D9E8A387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B710-2332-49CF-9C5A-9D2D042C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F41C6-D998-4F9D-8DC0-E56FDC18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43278-7ACE-4A44-AD33-9474C3FA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9FB34-CCE6-4F10-BCB4-B2BFB88C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EC4761-5A71-49BF-A60F-2638722B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0A5FA-B0F1-4EF3-A048-D3E8A564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B1D51-8449-44E3-BA03-809FAC51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2509BC-47C9-4DAA-ABFE-0D2071B6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1D992B-A756-4EA6-B9C7-D6AB714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96CFFB-DA81-4A22-873D-87329C72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A87AE-C442-450D-A8FA-F87E28EB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7D90-BBB0-4955-93C7-D6E1C20D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C4B04-6C3A-4F8D-8CB4-7BC2C2AD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88DE5-6A69-444E-92C4-6683B076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202BD-B768-43FD-A9FA-C4B17F7F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54A0B-24C7-44D6-B472-2D96D295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D8C95-3969-44C8-8260-194F35FE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0FEB9-ACAD-4A18-8860-EB57C771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F90FA1-0A7A-4C0B-8C0F-0E050FEA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6FC3A-095A-4787-B91A-21B69563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70D5D-FE1A-4A27-8D06-7C19CEF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D5C90-2241-47FD-B7D2-433AC2A0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3ACE-EDB4-48F1-B2F3-70F4BA85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B8653-5AF7-4388-89DE-C83A6036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475A5-F8AB-4390-BA13-BBBDD2C5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3B042-26BC-4066-B67B-6393467F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45A0AA-C1BE-4272-9687-AAA974CA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797D8-2ACC-4C0F-A5B9-1B8C0B31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6B1F9-0AD9-44BD-A68B-03F68D98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4E102-1253-45FF-8366-BCAB2D53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326408-3405-497E-9EF7-33EFA9F3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1B8DE-4685-4F47-9A6F-60811B4D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749A34-7A61-4264-8AA1-472C904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F60-7DC7-4DB6-ADD5-1681C58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E545-C469-4423-B0A9-291561D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388CC-D7DE-4708-9CE7-56770C0C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965A5-1F08-4EAD-AD36-6EDA37DF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E6D6BD-E404-4ACE-83B8-ACC9BE06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64D69-87DD-4BD7-A768-9884FCC1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5BC74-B1AD-4A1D-A064-D8A92619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26628-3991-4A19-9BB8-666E6E7A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3E4CE-11E7-4AFA-90C0-616E9A82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86F0A-B9DE-465F-8B0E-B3B557E7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86BF4B-542B-448B-884B-4394A2B1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3C256-C566-4986-B373-B88AFA46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74C9-4D48-4D11-B7D0-961EE4FE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D912E-9965-4B87-812D-C69CCDD1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15706-56D4-4DB2-979D-35C63AD3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768771-DA60-4B99-A2B7-D966843C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B5E97-6027-4002-8185-E3419810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18A8E3-8968-4472-807F-CC3AF6BA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6DE7F-3BE4-4DC1-BAF5-0A3FCE4D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02E1E-EA31-4FE4-B921-4C234E8D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40825B-32CA-4379-B5C5-27C62F12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ED9C44-4F60-4FBA-8B6C-A78F9286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F55119-48F7-4BFC-9436-0097A326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B58B-A294-4F88-8724-CC52B91C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331F53-3A53-4C9D-8B6D-EE8C95D1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8932A-A247-4912-9B83-95221CB3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7704BE-5324-4C2F-B601-0741709A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EAA6E8-ECD1-4D5B-B971-0A953421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01C57F-E106-4CEA-88CF-F2BF8445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01EAD-381A-47ED-9F35-3F2C2527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DFA598-C204-42FA-B3E2-56575B04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9D463-3DA6-4D6B-9381-5245169E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5B60D-80D3-43D2-B5B6-C678DDD2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985AB-3919-430D-B46A-213F6CF4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09B8-833F-44A4-9E5A-721BFC7C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E526A-8866-423B-8A15-BD349076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C89601-CA2D-4BCB-AB49-B75ACA91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4EB5CF-A8B5-4073-A5D5-BBE0F180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8D67BD-9A86-4326-B6DA-2440E0FD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845CA2-DE86-411C-BA94-F15C4FB4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EA872C-5A8A-476D-9231-8C2CA920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6769B5-C523-44F2-86B7-01B9E668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EF97EF-935A-4D76-BCF6-137F737F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80130-E6A6-41A4-88F0-3EAF1EF2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43B86-65E5-4AF6-94A6-29CCB847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51C6-B542-40E9-8FDA-19E21025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E9BF1C-5622-44F3-B9AF-84AD1BAC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742BF5-9B70-4092-8090-28A9501F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E418D-F13F-4E1F-B3CF-CEAE178B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D42D5A-B75D-4D33-8E07-8C2BE6A1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3DC429-C614-462D-B0C1-A370EB42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9882D-77DB-461D-89ED-77758183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387199-1CE4-47B2-80B9-45AE4C6C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8D33D2-4B0B-4FDB-9E1E-7C0629EA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752F4-EA6D-46D4-97A8-A233EE0C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DB8CD7-9BBC-43D6-899C-18D5C386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9B6E-F13F-4F64-A39F-038B3F01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B485A-55B4-445A-A9D7-7C02A58B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E8992-E29B-407B-8409-62C641DF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9A267C-63EC-451D-88FE-CAF06196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3C0E-8F97-4FC7-A7B6-9AEBFC05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77E3B-19C8-4D2C-9730-543F80A2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C50C7-2A1E-40F0-86BD-4CC0C69A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A1287-73FE-4BAC-8781-CBDA6A7D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60C-B1F4-45CC-B8D4-4D8271D3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EA49-0C96-42AB-B6A8-0E2BBB07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AF1C7-A0D6-40EC-B00F-FB1B125B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AEFD3-2BE2-42DD-8085-2D5FE75D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3D3A-CBE4-4D4B-AF56-7AB50F5B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7D87-9CA3-4F6B-B510-D0334C97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5DC1-32E2-4C4B-8110-6377F4DE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3705-7527-4697-BD3B-7EFD0F1F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ABA53-CBAE-4219-A395-A9196747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CF05-3818-4900-8EC3-A206C18A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AF384-33CB-4BF3-A1A0-117C05AF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950-1A81-4DC2-9B42-3A1D63E1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71053-0409-4178-96AA-7483C5CA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FFF50-98FD-49A8-911C-4E9B30E5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33CE-011C-445D-AB8B-7ECF770E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4B2C4-CB5A-48FC-A056-D0DA1BAE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53F20-C47B-41BC-8758-B1F4607D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1288-0539-4C3B-B9F0-95DE4B61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0780-8138-4D56-8FA4-7E6A9A44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247E4-4909-4FD3-82AF-0F126FBE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746B-B89A-4F6E-8CC7-F31DEEF3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3D220-F3B0-454B-B554-591B0AB9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1F9-216B-480F-ABAE-56240C7A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E09BA-6C48-42A6-A9C9-ED698916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CF006-327E-4E55-AA0E-6186D9F8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2AF83-803C-4765-AA35-8062AEFC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08A09-142A-459B-AC92-68178CF1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819FB-707B-40A4-8A08-06289DC7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8566-DC77-4F19-9F32-2DC67E65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3E07D-C535-4613-A3F5-2DC1AF50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BA8C6-2025-45EE-8372-6ED6C5AE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EE707-2DBB-495F-B4C6-763DD717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B47B6-92E2-41E4-9FF7-9AC27A34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36F-2E4F-4BA9-AFDF-D7D5E7D3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8B09A-3B86-44F3-8F62-4FF6D195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9CF16-B8D3-4AE4-BF8D-37A8D486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CBB55-A904-4459-8F3E-D5702980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5EFB-388A-4DD7-86E4-7E0B9749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8EF1A-A45F-4C53-A209-380E695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067BF-4B94-4FEC-A5B5-33E6559B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8DE59-47BE-4E9A-AA75-7F7939ED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DC235-8ACF-48F4-BD31-BF73BA6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B271F-269A-46E3-95A7-6EE0F516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B635C-168E-4ACC-9D13-2C4EF2DD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FE3-EDE2-4C53-B1E0-A7E1848D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A4C24-E0A3-4454-A529-39BDA130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8F7C9-60F9-441D-8CBF-FAC1602F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37FD6-FC33-457F-8BA2-13E09282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0E360-94D0-4B3E-8D82-03745265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BB654-DD65-48BC-BA6D-1C808B5D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DFA04-6E30-49EB-B88D-7A658EE6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2DABF-C7D1-4ABD-9CBF-CFAB7C51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16CD9-EA53-49E6-A53F-A237799E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40B99-7079-4230-B87D-B6C7D3D9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16E6F-436C-492C-98FF-21EAA394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65A-CA87-4986-AE94-F8B5E4C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BC1CD-7A1E-4D05-AB49-01B8AC97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13518-AB62-4A04-89BD-C8262A98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2727D-EEE0-454E-B8CA-19057536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0AE30-220F-4BF8-B91D-1D1F12C9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F7574-1846-4876-A4DE-12636B69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B9F1D-B8D5-4B00-ACE6-AE134A8C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3E64B-5BBF-44A2-A1B1-7F77AAE6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5F156-9031-4A71-A06F-0AA57D73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016FB-5991-4CDC-9C44-521E86FA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1110C-866A-4C1B-AA12-93B29758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B57-9C46-4DE7-B752-2297FF5A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F1478-87BE-4C38-95C3-F7F8C01F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7D312-99FF-4C73-A333-B6F8DC3F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10459-91D9-4ABF-9C67-8D7C1415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DAAED-6DAD-453F-BCC1-61302827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4C620-B503-4076-B5F1-CC71D8C1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C8C24-00EA-4D30-BB98-B298CC36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5D50F-A45D-4165-A7A3-67631750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6CBF2-6E56-4959-9A02-E665E327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316C5-91F4-46E0-A07D-6C644C84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C3E99-1BD5-4C66-996E-9DDF7802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3E99-B41B-4AF0-81F2-C5AE7C1DD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D76E-E70C-410C-9DFE-765B305F38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AB29-D6AB-4C7B-9E1A-2A3C131855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EC6C-64E3-4B9D-8B50-D2CB8921E1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FCC-BDA9-43E4-B2CA-DC284255FA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4BEE-67C8-449A-BAA0-AEF66440E6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F9B8-34D7-4379-9B4C-3E00F36112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9925-402B-4CC2-8807-DFA9EC681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9421-61D6-4EEB-99DB-AC68524E66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8465-F337-46B3-8C8B-E4C195E8A4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78BB-764B-47F6-AED6-1E62FB1037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6A4C-F6C4-459D-94F5-57A543D916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E598-9694-4422-9A58-5D5FC615B2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3CDF-77F5-4662-ADA3-619EF33D3B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1903-D57F-4AED-AF96-1772B52EF8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7E73-E7B6-4C67-903B-F0C33ADCA3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E613-BD47-44E4-B99E-29A00234F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56D5-FAFD-46CF-9C81-BEF88E7C57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0B00-88C1-4E5B-BBB2-C0B2503081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160B-42FA-461E-9DA2-DD90E756B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7863-8B27-474D-9E9B-F02734B1B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F80C-F10D-46E5-8E66-F064BAE8AE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43DC-559F-4027-ACC9-2AA1BB475D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3715-071B-4849-9293-8D2AD4C27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2A0E-C89F-4FD4-B9BC-A75DFF98C9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1476-1210-4E1A-B362-CFF937DFE4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5D61-3C47-4F1C-8547-0E308C68E5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5FA2-CBC7-4BD9-B6DB-6F49DE87A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15C8-263B-4778-8E44-200E7D671C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F531-5977-48A8-9E69-DC7E5AE0C5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905B-0F66-4F59-AC11-15F608A343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7915-7572-4CD0-BE71-CBF0BD78C2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F23F-3B29-4A9C-87FD-368C68B634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4A39-E5F5-426D-9D6D-C3DA3720FC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BEDC-6108-4FF1-B018-056560B73C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E373-FC72-49DC-B5C7-7966A88160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C357-5F75-4BE5-8B41-4B5A7CAAB6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A1B8-FA3F-4A5D-A4A8-1C3ED709F0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6A2B-C539-4EE4-84F2-76BECEBD7C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2BCE-3E94-417E-B187-A0D374D502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504880" cy="561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880920" y="3133800"/>
            <a:ext cx="73821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371520" y="1147680"/>
            <a:ext cx="8400960" cy="5172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2"/>
          <a:stretch/>
        </p:blipFill>
        <p:spPr>
          <a:xfrm>
            <a:off x="2617920" y="1120680"/>
            <a:ext cx="4572000" cy="4431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3"/>
          <a:stretch/>
        </p:blipFill>
        <p:spPr>
          <a:xfrm>
            <a:off x="2571840" y="2311560"/>
            <a:ext cx="5143320" cy="4428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4"/>
          <a:stretch/>
        </p:blipFill>
        <p:spPr>
          <a:xfrm>
            <a:off x="5000760" y="2894040"/>
            <a:ext cx="3714480" cy="4428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5"/>
          <a:stretch/>
        </p:blipFill>
        <p:spPr>
          <a:xfrm>
            <a:off x="1857240" y="3475080"/>
            <a:ext cx="2357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1" descr=""/>
          <p:cNvPicPr/>
          <p:nvPr/>
        </p:nvPicPr>
        <p:blipFill>
          <a:blip r:embed="rId1"/>
          <a:stretch/>
        </p:blipFill>
        <p:spPr>
          <a:xfrm>
            <a:off x="514440" y="1028880"/>
            <a:ext cx="8115120" cy="53434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2"/>
          <a:stretch/>
        </p:blipFill>
        <p:spPr>
          <a:xfrm>
            <a:off x="4643280" y="3571920"/>
            <a:ext cx="1143000" cy="442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3"/>
          <a:stretch/>
        </p:blipFill>
        <p:spPr>
          <a:xfrm>
            <a:off x="4857840" y="4143240"/>
            <a:ext cx="1571400" cy="4431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4"/>
          <a:stretch/>
        </p:blipFill>
        <p:spPr>
          <a:xfrm>
            <a:off x="6572160" y="4727520"/>
            <a:ext cx="135756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399960" y="833400"/>
            <a:ext cx="8344080" cy="58006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2"/>
          <a:stretch/>
        </p:blipFill>
        <p:spPr>
          <a:xfrm>
            <a:off x="1643040" y="739800"/>
            <a:ext cx="7072200" cy="4428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3"/>
          <a:stretch/>
        </p:blipFill>
        <p:spPr>
          <a:xfrm>
            <a:off x="1500120" y="1311120"/>
            <a:ext cx="2928960" cy="4431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4"/>
          <a:stretch/>
        </p:blipFill>
        <p:spPr>
          <a:xfrm>
            <a:off x="3214800" y="6097680"/>
            <a:ext cx="45720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图片 1" descr=""/>
          <p:cNvPicPr/>
          <p:nvPr/>
        </p:nvPicPr>
        <p:blipFill>
          <a:blip r:embed="rId1"/>
          <a:stretch/>
        </p:blipFill>
        <p:spPr>
          <a:xfrm>
            <a:off x="708120" y="701640"/>
            <a:ext cx="7624800" cy="61470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2"/>
          <a:stretch/>
        </p:blipFill>
        <p:spPr>
          <a:xfrm>
            <a:off x="5643720" y="2357280"/>
            <a:ext cx="2000160" cy="4431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3"/>
          <a:stretch/>
        </p:blipFill>
        <p:spPr>
          <a:xfrm>
            <a:off x="5500800" y="4071960"/>
            <a:ext cx="571320" cy="4428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4"/>
          <a:stretch/>
        </p:blipFill>
        <p:spPr>
          <a:xfrm>
            <a:off x="6572160" y="5227560"/>
            <a:ext cx="142884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705880" cy="5334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2214720" y="2808360"/>
            <a:ext cx="649080" cy="287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3952800" y="280980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5786280" y="278604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7572240" y="280836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1928880" y="3357720"/>
            <a:ext cx="1500120" cy="311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3714840" y="3354480"/>
            <a:ext cx="1500120" cy="312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8"/>
          <a:stretch/>
        </p:blipFill>
        <p:spPr>
          <a:xfrm>
            <a:off x="5500800" y="3357720"/>
            <a:ext cx="1500120" cy="311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9"/>
          <a:stretch/>
        </p:blipFill>
        <p:spPr>
          <a:xfrm>
            <a:off x="7286760" y="3357720"/>
            <a:ext cx="1500120" cy="311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10"/>
          <a:stretch/>
        </p:blipFill>
        <p:spPr>
          <a:xfrm>
            <a:off x="2690640" y="4786200"/>
            <a:ext cx="2143440" cy="311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11"/>
          <a:stretch/>
        </p:blipFill>
        <p:spPr>
          <a:xfrm>
            <a:off x="5857920" y="4786200"/>
            <a:ext cx="2428920" cy="311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12"/>
          <a:stretch/>
        </p:blipFill>
        <p:spPr>
          <a:xfrm>
            <a:off x="2571840" y="5262480"/>
            <a:ext cx="2428920" cy="311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13"/>
          <a:stretch/>
        </p:blipFill>
        <p:spPr>
          <a:xfrm>
            <a:off x="5369040" y="5262480"/>
            <a:ext cx="32860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324000" y="736560"/>
            <a:ext cx="8553240" cy="60771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5929200" y="1322280"/>
            <a:ext cx="571680" cy="311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4119480" y="1690560"/>
            <a:ext cx="571680" cy="312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3881520" y="3821040"/>
            <a:ext cx="1071360" cy="312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5"/>
          <a:stretch/>
        </p:blipFill>
        <p:spPr>
          <a:xfrm>
            <a:off x="3643200" y="4572000"/>
            <a:ext cx="2143080" cy="311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6"/>
          <a:stretch/>
        </p:blipFill>
        <p:spPr>
          <a:xfrm>
            <a:off x="3000240" y="4929120"/>
            <a:ext cx="1285920" cy="3110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7"/>
          <a:stretch/>
        </p:blipFill>
        <p:spPr>
          <a:xfrm>
            <a:off x="3394080" y="6024600"/>
            <a:ext cx="1143000" cy="311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8"/>
          <a:stretch/>
        </p:blipFill>
        <p:spPr>
          <a:xfrm>
            <a:off x="6000840" y="3989520"/>
            <a:ext cx="928440" cy="3110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9"/>
          <a:stretch/>
        </p:blipFill>
        <p:spPr>
          <a:xfrm>
            <a:off x="7215120" y="3989520"/>
            <a:ext cx="809640" cy="311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10"/>
          <a:stretch/>
        </p:blipFill>
        <p:spPr>
          <a:xfrm>
            <a:off x="6000840" y="4727520"/>
            <a:ext cx="928440" cy="311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11"/>
          <a:stretch/>
        </p:blipFill>
        <p:spPr>
          <a:xfrm>
            <a:off x="7275600" y="4738680"/>
            <a:ext cx="928440" cy="3110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12"/>
          <a:stretch/>
        </p:blipFill>
        <p:spPr>
          <a:xfrm>
            <a:off x="7786800" y="5119560"/>
            <a:ext cx="928440" cy="311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13"/>
          <a:stretch/>
        </p:blipFill>
        <p:spPr>
          <a:xfrm>
            <a:off x="6429240" y="5500800"/>
            <a:ext cx="571680" cy="311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14"/>
          <a:stretch/>
        </p:blipFill>
        <p:spPr>
          <a:xfrm>
            <a:off x="7858080" y="5857920"/>
            <a:ext cx="785880" cy="311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15"/>
          <a:stretch/>
        </p:blipFill>
        <p:spPr>
          <a:xfrm>
            <a:off x="6357960" y="6262560"/>
            <a:ext cx="714240" cy="3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128520" y="1000080"/>
            <a:ext cx="8886960" cy="55245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1000080" y="2227320"/>
            <a:ext cx="3000600" cy="311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1062000" y="2546280"/>
            <a:ext cx="2928960" cy="311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1000080" y="2927520"/>
            <a:ext cx="2928960" cy="312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4214880" y="2357280"/>
            <a:ext cx="2714400" cy="311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4214880" y="2760840"/>
            <a:ext cx="2714400" cy="3110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7"/>
          <a:stretch/>
        </p:blipFill>
        <p:spPr>
          <a:xfrm>
            <a:off x="7215120" y="2347920"/>
            <a:ext cx="1571760" cy="3110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8"/>
          <a:stretch/>
        </p:blipFill>
        <p:spPr>
          <a:xfrm>
            <a:off x="7215120" y="2747880"/>
            <a:ext cx="1571760" cy="3114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9"/>
          <a:stretch/>
        </p:blipFill>
        <p:spPr>
          <a:xfrm>
            <a:off x="8388360" y="463716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10"/>
          <a:stretch/>
        </p:blipFill>
        <p:spPr>
          <a:xfrm>
            <a:off x="8388360" y="5756400"/>
            <a:ext cx="38592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318960" y="873000"/>
            <a:ext cx="8504280" cy="58089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2"/>
          <a:stretch/>
        </p:blipFill>
        <p:spPr>
          <a:xfrm>
            <a:off x="7947000" y="213048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3"/>
          <a:stretch/>
        </p:blipFill>
        <p:spPr>
          <a:xfrm>
            <a:off x="7929720" y="621360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409680" y="947880"/>
            <a:ext cx="8324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349200" y="1135080"/>
            <a:ext cx="8447040" cy="52182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7929720" y="113040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7910640" y="347328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2" descr=""/>
          <p:cNvPicPr/>
          <p:nvPr/>
        </p:nvPicPr>
        <p:blipFill>
          <a:blip r:embed="rId1"/>
          <a:stretch/>
        </p:blipFill>
        <p:spPr>
          <a:xfrm>
            <a:off x="343080" y="2009880"/>
            <a:ext cx="8458200" cy="28382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2"/>
          <a:stretch/>
        </p:blipFill>
        <p:spPr>
          <a:xfrm>
            <a:off x="7929720" y="376236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1" descr=""/>
          <p:cNvPicPr/>
          <p:nvPr/>
        </p:nvPicPr>
        <p:blipFill>
          <a:blip r:embed="rId1"/>
          <a:stretch/>
        </p:blipFill>
        <p:spPr>
          <a:xfrm>
            <a:off x="352440" y="914400"/>
            <a:ext cx="8439120" cy="455292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3" descr=""/>
          <p:cNvPicPr/>
          <p:nvPr/>
        </p:nvPicPr>
        <p:blipFill>
          <a:blip r:embed="rId2"/>
          <a:stretch/>
        </p:blipFill>
        <p:spPr>
          <a:xfrm>
            <a:off x="1523880" y="5575320"/>
            <a:ext cx="7267680" cy="10000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3"/>
          <a:stretch/>
        </p:blipFill>
        <p:spPr>
          <a:xfrm>
            <a:off x="3143160" y="2597040"/>
            <a:ext cx="1428840" cy="4431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4"/>
          <a:stretch/>
        </p:blipFill>
        <p:spPr>
          <a:xfrm>
            <a:off x="3714840" y="3786120"/>
            <a:ext cx="1714320" cy="4431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5"/>
          <a:stretch/>
        </p:blipFill>
        <p:spPr>
          <a:xfrm>
            <a:off x="1428840" y="4370400"/>
            <a:ext cx="21430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5:14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